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0534-9064-45B8-842B-4C03CC30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C723-CBD9-4337-B7A3-CFC0EB9CA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D73F-C49F-43C2-84F9-E89D4217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545-A917-4E48-BE35-4A4DA9C6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45D-90C8-440C-87DC-975F36AD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4D83-3DB7-4A8E-8E90-022230AB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94D-7CF3-4783-940A-CF5B955C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F41-9C73-4D9F-8073-F6579CC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6C8-7434-4ED3-A9B4-2B476D2E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75D-8C1D-47CE-B53D-BDCD552E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C81-0FBA-4FC3-A5CE-F663B757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80A-4EE6-4CF4-A3A4-8D0C2CBC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7E0-C7D2-4F8D-ADD1-5FA89E5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363-4674-4F45-A27D-A110DAD7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6F1-C1DE-41B4-80FA-B774F4F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A5E-1A1B-4F1F-8120-4907375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DD-8F5F-4144-83D7-E241399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24-AB19-476F-9D1C-A45893C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49BE-1A4F-4DF8-BDFD-3B1A3415A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ensures that there is genetic variation in the offspring &amp;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use additional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idogtree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ustardselection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election_corn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ers must work with the existing genetic diversity, or they can use genetic engineering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6-05-27T14:22:39Z</dcterms:modified>
  <cp:revision>39</cp:revision>
  <dc:subject/>
  <dc:title>PowerPoint Presentation</dc:title>
</cp:coreProperties>
</file>